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197-82BD-4B8A-AFC9-141CF0BD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E1F-3A49-4BC3-9C79-708D3502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D1F5-0418-4E5B-ABDF-3CFBE229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F0C-ADDF-467B-850C-CACED90A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AE83-9032-42A9-8F76-E9E4CF64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80B-4F4A-4FE4-B0D0-657F2BA9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040D-ACDE-49FB-A9AE-D77D255F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ADF-1889-4158-84CB-0720EE44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1D8-B809-4542-AB69-C5ECB480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F5A-03E0-43C8-8787-E27E970F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24B-E8BB-4D8E-88DF-D49BC398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57D5-760A-4B0E-AD96-05F91053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D31B-AF32-4529-9BC4-33507913E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l.dropbox.com/u/15019611/project/wikis%20edu_i_teacher_1_2012.pdf" TargetMode="External"/><Relationship Id="rId2" Type="http://schemas.openxmlformats.org/officeDocument/2006/relationships/hyperlink" Target="http://dl.dropbox.com/u/15019611/project/wikis%20edu_i_teacher_1_2012.pdf" TargetMode="External"/><Relationship Id="rId3" Type="http://schemas.openxmlformats.org/officeDocument/2006/relationships/hyperlink" Target="http://dl.dropbox.com/u/15019611/project/wikis%20edu_i_teacher_1_2012.pdf" TargetMode="External"/><Relationship Id="rId4" Type="http://schemas.openxmlformats.org/officeDocument/2006/relationships/hyperlink" Target="http://www.youtube.com/watch?v=IG9wFknp45Q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olodim.wikispaces.com/home" TargetMode="External"/><Relationship Id="rId2" Type="http://schemas.openxmlformats.org/officeDocument/2006/relationships/hyperlink" Target="http://2010plant.wikispaces.com/home" TargetMode="External"/><Relationship Id="rId3" Type="http://schemas.openxmlformats.org/officeDocument/2006/relationships/hyperlink" Target="http://pilotika1112.blogspot.gr/2012/11/blog-post.htm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2.0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αι δημοτ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μείς με την κοπέλ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 + </a:t>
            </a: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εκπαίδευσ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ισαγωγικό άρθρο τι είναι &amp; πως λειτουργούν τα wikis. "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Παιδαγωγική αξιοποίηση των 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s</a:t>
            </a: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από εκπαιδευτικού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"</a:t>
            </a:r>
            <a:br>
              <a:rPr sz="3200"/>
            </a:br>
            <a:br>
              <a:rPr sz="3200"/>
            </a:br>
            <a:r>
              <a:rPr b="0" lang="el-GR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Βιντεοοδηγίες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 για τη χρήση του wiki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Υλικ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ΑΕΠ &amp; πιλοτικ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Φωτόδεντρ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ΛΛΑ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μάδα υποστήριξης του μαθή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.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πό εκπαιδευτικού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από την επιμόρφωση εκπαιδευτικών καθηγητών Πληροφορικής που διδάσκουν στα πιλοτικά Δημοτικά σχολεία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iki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με μέλη εκπαιδευτικούς που δίδαξαν το μάθημα ΤΠΕ στα ΕΑΕΠ δημοτικά του Β. Αιγαίου</a:t>
            </a:r>
            <a:br>
              <a:rPr sz="2000"/>
            </a:br>
            <a:br>
              <a:rPr sz="2000"/>
            </a:br>
            <a:r>
              <a:rPr b="0" lang="el-G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Προτάσει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 για τα ΕΑΕΠ Δημοτικά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ε κάποιες περιπτώσεις προτείνεται η αξιοποίηση υλικού από άλλα διδακτικά αντικείμενα προκειμένου να επιτευχθούν κυρίως στόχοι του μαθήματος ΤΠΕ, αλλά και άλλων μαθημάτων.</a:t>
            </a:r>
            <a:br>
              <a:rPr sz="2000"/>
            </a:br>
            <a:br>
              <a:rPr sz="2000"/>
            </a:b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Masti από το σύλλογο εκπαιδευτικών Πληροφορικής Χί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sxolinux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LINUX για τους μαθητές του Δημοτικού 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Unes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αι για να είμαστε σύμφωνοι με τις επιταγές της εποχής παραθέτουμε έρευνα της Unesco σχετικά με τη χρήση των ΤΠΕ στα δημοτικ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Προβλήματ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πώλεια εμπειρίας με μικρή ηλικ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Ευχαριστούμε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νδριάνης Γιώργ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εοφανέλλης Τίμ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ουρτίδης Βαγγέλ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Μαργαρίτη Μάγ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0:15:18Z</dcterms:created>
  <dc:creator>Τιμολέων Θεοφανέλλης</dc:creator>
  <dc:description/>
  <dc:language>en-US</dc:language>
  <cp:lastModifiedBy>Τιμολέων Θεοφανέλλης</cp:lastModifiedBy>
  <dcterms:modified xsi:type="dcterms:W3CDTF">2014-04-29T12:21:14Z</dcterms:modified>
  <cp:revision>3</cp:revision>
  <dc:subject/>
  <dc:title>Web 2.0 και δημοτικό</dc:title>
</cp:coreProperties>
</file>