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B2A-A152-4794-B612-6B2C4A98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D61-22E1-4545-BAAC-7303CB5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24F-88B3-4221-97C5-130FC9A7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005-20A3-4734-9AAA-97686E9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C9E-88CD-4825-8248-62894D9E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FC4-63EC-4CCB-A8C1-31F226B6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5BB-2B74-4EB4-BF44-3561B07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3C4-0F1E-4933-A8AC-C00254A4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1AC-34DE-4C13-A9B7-297AF679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E06-B064-4C7C-A9D5-00F90931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95C-4255-4FDC-A8E6-8A2DDDF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DD7-6BA4-4479-8D4D-7050034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8AC5-35B7-45E4-8B9A-8B1DD0E4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βλ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ώλεια εμπειρίας με μικρή ηλ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2:21:14Z</dcterms:modified>
  <cp:revision>3</cp:revision>
  <dc:subject/>
  <dc:title>Web 2.0 και δημοτικό</dc:title>
</cp:coreProperties>
</file>