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108-910E-460B-865A-AAC7A74C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0334-0B5C-4408-BB0F-46D6C8E1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6B2-A867-4456-BDC5-C19D0F2A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4FD-36EC-4F35-909F-081857AC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BC4-D927-4253-8E01-86A51AF7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5BC-1885-4867-AF45-4F77C92B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EC4-C46A-430E-A24B-B68279F2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756-4862-4B1D-BDAC-E51D838A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58D-1023-4E18-9D40-9BDEE6C6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7064-976A-4072-8551-88A6CEB3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5E5-BBDE-48FD-9BE7-2F00094B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2C59-D7FB-4C26-9507-18ECB8C7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3FBF-E7E4-4962-9A54-AFE4F41C0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l.dropbox.com/u/15019611/project/wikis%20edu_i_teacher_1_2012.pdf" TargetMode="External"/><Relationship Id="rId2" Type="http://schemas.openxmlformats.org/officeDocument/2006/relationships/hyperlink" Target="http://dl.dropbox.com/u/15019611/project/wikis%20edu_i_teacher_1_2012.pdf" TargetMode="External"/><Relationship Id="rId3" Type="http://schemas.openxmlformats.org/officeDocument/2006/relationships/hyperlink" Target="http://dl.dropbox.com/u/15019611/project/wikis%20edu_i_teacher_1_2012.pdf" TargetMode="External"/><Relationship Id="rId4" Type="http://schemas.openxmlformats.org/officeDocument/2006/relationships/hyperlink" Target="http://www.youtube.com/watch?v=IG9wFknp45Q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lodim.wikispaces.com/home" TargetMode="External"/><Relationship Id="rId2" Type="http://schemas.openxmlformats.org/officeDocument/2006/relationships/hyperlink" Target="http://2010plant.wikispaces.com/home" TargetMode="External"/><Relationship Id="rId3" Type="http://schemas.openxmlformats.org/officeDocument/2006/relationships/hyperlink" Target="http://pilotika1112.blogspot.gr/2012/11/blog-post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2.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αι δημοτ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μείς με την κοπέλ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+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κπαίδευ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σαγωγικό άρθρο τι είναι &amp; πως λειτουργούν τα wikis. "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Παιδαγωγική αξιοποίηση των 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s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από εκπαιδευτικού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"</a:t>
            </a:r>
            <a:br>
              <a:rPr sz="3200"/>
            </a:br>
            <a:br>
              <a:rPr sz="3200"/>
            </a:b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Βιντεοοδηγ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για τη χρήση του 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Υλ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ΑΕΠ &amp; πιλο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ωτόδεν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ΛΛΑ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 υποστήριξη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.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πό εκπαιδευτικού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από την επιμόρφωση εκπαιδευτικών καθηγητών Πληροφορικής που διδάσκουν στα πιλοτικά Δημοτικά σχολεία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με μέλη εκπαιδευτικούς που δίδαξαν το μάθημα ΤΠΕ στα ΕΑΕΠ δημοτικά του Β. Αιγαίου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Προτά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για τα ΕΑΕΠ Δημοτικά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ποιες περιπτώσεις προτείνεται η αξιοποίηση υλικού από άλλα διδακτικά αντικείμενα προκειμένου να επιτευχθούν κυρίως στόχοι του μαθήματος ΤΠΕ, αλλά και άλλων μαθημάτων.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asti από το σύλλογο εκπαιδευτικών Πληροφορικής Χ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sxolinux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LINUX για τους μαθητές του Δημοτικού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να είμαστε σύμφωνοι με τις επιταγές της εποχής παραθέτουμε έρευνα της Unesco σχετικά με τη χρήση των ΤΠΕ στα δημοτικ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οβλήμα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ώλεια εμπειρίας με μικρή ηλικ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δριάνης Γιώργ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εοφανέλλης Τίμ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ουρτίδης Βαγγέλ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ργαρίτη Μάγ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0:15:18Z</dcterms:created>
  <dc:creator>Τιμολέων Θεοφανέλλης</dc:creator>
  <dc:description/>
  <dc:language>en-US</dc:language>
  <cp:lastModifiedBy>Τιμολέων Θεοφανέλλης</cp:lastModifiedBy>
  <dcterms:modified xsi:type="dcterms:W3CDTF">2014-04-29T12:21:14Z</dcterms:modified>
  <cp:revision>3</cp:revision>
  <dc:subject/>
  <dc:title>Web 2.0 και δημοτικό</dc:title>
</cp:coreProperties>
</file>