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A6BC-B9F8-4A9E-8625-141808161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A1A2-2135-4CF2-B3E8-2EDFE3225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4332-9B6B-4ACC-AD90-6EBA34F5B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CEEA-440D-4BAF-BDB2-87FCDAC8E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60FC-0CE6-4DD6-A5BA-664843EED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7058-B715-4E6C-88B9-CD31BD9FD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080C-2562-4F30-8820-E2A18AF01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FFD1-561F-4C22-9779-179C43CF1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5059-4734-4182-A22F-7F0ED1498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0A8C-D4B9-405E-A9D0-4239D79F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76FF-CB07-4592-82E1-9447EA71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C3E7-91BD-4FF8-A141-918688D7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5A7B7-3221-402A-B7EA-ADA1E71454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dl.dropbox.com/u/15019611/project/wikis%20edu_i_teacher_1_2012.pdf" TargetMode="External"/><Relationship Id="rId2" Type="http://schemas.openxmlformats.org/officeDocument/2006/relationships/hyperlink" Target="http://dl.dropbox.com/u/15019611/project/wikis%20edu_i_teacher_1_2012.pdf" TargetMode="External"/><Relationship Id="rId3" Type="http://schemas.openxmlformats.org/officeDocument/2006/relationships/hyperlink" Target="http://dl.dropbox.com/u/15019611/project/wikis%20edu_i_teacher_1_2012.pdf" TargetMode="External"/><Relationship Id="rId4" Type="http://schemas.openxmlformats.org/officeDocument/2006/relationships/hyperlink" Target="http://www.youtube.com/watch?v=IG9wFknp45Q" TargetMode="Externa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olodim.wikispaces.com/home" TargetMode="External"/><Relationship Id="rId2" Type="http://schemas.openxmlformats.org/officeDocument/2006/relationships/hyperlink" Target="http://2010plant.wikispaces.com/home" TargetMode="External"/><Relationship Id="rId3" Type="http://schemas.openxmlformats.org/officeDocument/2006/relationships/hyperlink" Target="http://pilotika1112.blogspot.gr/2012/11/blog-post.html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 2.0 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και δημοτικ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μείς με την κοπέλ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1170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ki + 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εκπαίδευσ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Εισαγωγικό άρθρο τι είναι &amp; πως λειτουργούν τα wikis. "</a:t>
            </a:r>
            <a:r>
              <a:rPr b="0" lang="el-GR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Παιδαγωγική αξιοποίηση των </a:t>
            </a:r>
            <a:r>
              <a:rPr b="0" lang="el-GR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ikis</a:t>
            </a:r>
            <a:r>
              <a:rPr b="0" lang="el-GR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από εκπαιδευτικούς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 "</a:t>
            </a:r>
            <a:br>
              <a:rPr sz="3200"/>
            </a:br>
            <a:br>
              <a:rPr sz="3200"/>
            </a:br>
            <a:r>
              <a:rPr b="0" lang="el-GR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Βιντεοοδηγίες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 για τη χρήση του wikispa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Υλικ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ΕΑΕΠ &amp; πιλοτικ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Φωτόδεντρ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ΕΛΛΑ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Ομάδα υποστήριξης του μαθήματο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κ.ά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Από εκπαιδευτικού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iki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 από την επιμόρφωση εκπαιδευτικών καθηγητών Πληροφορικής που διδάσκουν στα πιλοτικά Δημοτικά σχολεία</a:t>
            </a:r>
            <a:br>
              <a:rPr sz="2000"/>
            </a:br>
            <a:br>
              <a:rPr sz="2000"/>
            </a:br>
            <a:r>
              <a:rPr b="0" lang="el-GR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iki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 με μέλη εκπαιδευτικούς που δίδαξαν το μάθημα ΤΠΕ στα ΕΑΕΠ δημοτικά του Β. Αιγαίου</a:t>
            </a:r>
            <a:br>
              <a:rPr sz="2000"/>
            </a:br>
            <a:br>
              <a:rPr sz="2000"/>
            </a:br>
            <a:r>
              <a:rPr b="0" lang="el-GR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Προτάσεις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 για τα ΕΑΕΠ Δημοτικά</a:t>
            </a:r>
            <a:br>
              <a:rPr sz="2000"/>
            </a:br>
            <a:br>
              <a:rPr sz="2000"/>
            </a:b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Σε κάποιες περιπτώσεις προτείνεται η αξιοποίηση υλικού από άλλα διδακτικά αντικείμενα προκειμένου να επιτευχθούν κυρίως στόχοι του μαθήματος ΤΠΕ, αλλά και άλλων μαθημάτων.</a:t>
            </a:r>
            <a:br>
              <a:rPr sz="2000"/>
            </a:br>
            <a:br>
              <a:rPr sz="2000"/>
            </a:b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Masti από το σύλλογο εκπαιδευτικών Πληροφορικής Χίο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wnlo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sxolinux</a:t>
            </a:r>
            <a:br>
              <a:rPr sz="3200"/>
            </a:b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LINUX για τους μαθητές του Δημοτικού 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Unes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Και για να είμαστε σύμφωνοι με τις επιταγές της εποχής παραθέτουμε έρευνα της Unesco σχετικά με τη χρήση των ΤΠΕ στα δημοτικά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Προβλήματ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πώλεια εμπειρίας με μικρή ηλικ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Ευχαριστούμε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νδριάνης Γιώργο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Θεοφανέλλης Τίμο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Κουρτίδης Βαγγέλη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αργαρίτη Μάγδ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9T10:15:18Z</dcterms:created>
  <dc:creator>Τιμολέων Θεοφανέλλης</dc:creator>
  <dc:description/>
  <dc:language>en-US</dc:language>
  <cp:lastModifiedBy>Τιμολέων Θεοφανέλλης</cp:lastModifiedBy>
  <dcterms:modified xsi:type="dcterms:W3CDTF">2014-04-29T12:21:14Z</dcterms:modified>
  <cp:revision>3</cp:revision>
  <dc:subject/>
  <dc:title>Web 2.0 και δημοτικό</dc:title>
</cp:coreProperties>
</file>