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FA628-D4CD-48A2-B9D3-84315C4BD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8F681-54A6-4DFD-B7B0-3BD3D822E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EC9B0-5511-4172-A20D-CD989EC2A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46189-232B-4C08-A65E-5AFCCE9B0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86796-F801-464D-ABD1-177DE4E29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ED5D6-1B16-4F8F-9965-F223F1BF9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53EA2-8334-464D-B2DD-271E9EAC2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6AA3B-B936-48C1-BDFA-D66AD9FAA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FB113-AFC7-44E5-B092-E6D6074CE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904CD-BB3E-4970-A802-AC6E64BAB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FC022-1BEC-47BE-B0DB-9D4C2DAD7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82A86-925E-4BE2-B3C9-EADB9C70D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D1E81-F458-4C07-B278-1653587068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dl.dropbox.com/u/15019611/project/wikis%20edu_i_teacher_1_2012.pdf" TargetMode="External"/><Relationship Id="rId2" Type="http://schemas.openxmlformats.org/officeDocument/2006/relationships/hyperlink" Target="http://dl.dropbox.com/u/15019611/project/wikis%20edu_i_teacher_1_2012.pdf" TargetMode="External"/><Relationship Id="rId3" Type="http://schemas.openxmlformats.org/officeDocument/2006/relationships/hyperlink" Target="http://dl.dropbox.com/u/15019611/project/wikis%20edu_i_teacher_1_2012.pdf" TargetMode="External"/><Relationship Id="rId4" Type="http://schemas.openxmlformats.org/officeDocument/2006/relationships/hyperlink" Target="http://www.youtube.com/watch?v=IG9wFknp45Q" TargetMode="External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olodim.wikispaces.com/home" TargetMode="External"/><Relationship Id="rId2" Type="http://schemas.openxmlformats.org/officeDocument/2006/relationships/hyperlink" Target="http://2010plant.wikispaces.com/home" TargetMode="External"/><Relationship Id="rId3" Type="http://schemas.openxmlformats.org/officeDocument/2006/relationships/hyperlink" Target="http://pilotika1112.blogspot.gr/2012/11/blog-post.html" TargetMode="External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b 2.0 </a:t>
            </a:r>
            <a:r>
              <a:rPr b="0" lang="el-GR" sz="4400" spc="-1" strike="noStrike">
                <a:solidFill>
                  <a:srgbClr val="000000"/>
                </a:solidFill>
                <a:latin typeface="Arial"/>
              </a:rPr>
              <a:t>και δημοτικ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32000" y="4436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Εμείς με την κοπέλ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117000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iki + </a:t>
            </a:r>
            <a:r>
              <a:rPr b="0" lang="el-GR" sz="4400" spc="-1" strike="noStrike">
                <a:solidFill>
                  <a:srgbClr val="000000"/>
                </a:solidFill>
                <a:latin typeface="Arial"/>
              </a:rPr>
              <a:t>εκπαίδευσ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Εισαγωγικό άρθρο τι είναι &amp; πως λειτουργούν τα wikis. "</a:t>
            </a:r>
            <a:r>
              <a:rPr b="0" lang="el-GR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Παιδαγωγική αξιοποίηση των </a:t>
            </a:r>
            <a:r>
              <a:rPr b="0" lang="el-GR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ikis</a:t>
            </a:r>
            <a:r>
              <a:rPr b="0" lang="el-GR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 από εκπαιδευτικούς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 "</a:t>
            </a:r>
            <a:br>
              <a:rPr sz="3200"/>
            </a:br>
            <a:br>
              <a:rPr sz="3200"/>
            </a:br>
            <a:r>
              <a:rPr b="0" lang="el-GR" sz="3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Βιντεοοδηγίες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 για τη χρήση του wikispac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Υλικ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ΕΑΕΠ &amp; πιλοτικ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Φωτόδεντρ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ΕΛΛΑ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Ομάδα υποστήριξης του μαθήματο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κ.ά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Από εκπαιδευτικού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iki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 από την επιμόρφωση εκπαιδευτικών καθηγητών Πληροφορικής που διδάσκουν στα πιλοτικά Δημοτικά σχολεία</a:t>
            </a:r>
            <a:br>
              <a:rPr sz="2000"/>
            </a:br>
            <a:br>
              <a:rPr sz="2000"/>
            </a:br>
            <a:r>
              <a:rPr b="0" lang="el-GR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iki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 με μέλη εκπαιδευτικούς που δίδαξαν το μάθημα ΤΠΕ στα ΕΑΕΠ δημοτικά του Β. Αιγαίου</a:t>
            </a:r>
            <a:br>
              <a:rPr sz="2000"/>
            </a:br>
            <a:br>
              <a:rPr sz="2000"/>
            </a:br>
            <a:r>
              <a:rPr b="0" lang="el-GR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Προτάσεις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 για τα ΕΑΕΠ Δημοτικά</a:t>
            </a:r>
            <a:br>
              <a:rPr sz="2000"/>
            </a:br>
            <a:br>
              <a:rPr sz="2000"/>
            </a:b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Σε κάποιες περιπτώσεις προτείνεται η αξιοποίηση υλικού από άλλα διδακτικά αντικείμενα προκειμένου να επιτευχθούν κυρίως στόχοι του μαθήματος ΤΠΕ, αλλά και άλλων μαθημάτων.</a:t>
            </a:r>
            <a:br>
              <a:rPr sz="2000"/>
            </a:br>
            <a:br>
              <a:rPr sz="2000"/>
            </a:b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Masti από το σύλλογο εκπαιδευτικών Πληροφορικής Χίο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wnlo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sxolinux</a:t>
            </a:r>
            <a:br>
              <a:rPr sz="3200"/>
            </a:b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LINUX για τους μαθητές του Δημοτικού 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000000"/>
                </a:solidFill>
                <a:latin typeface="Arial"/>
              </a:rPr>
              <a:t>Unes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Και για να είμαστε σύμφωνοι με τις επιταγές της εποχής παραθέτουμε έρευνα της Unesco σχετικά με τη χρήση των ΤΠΕ στα δημοτικά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Προβλήματ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πώλεια εμπειρίας με μικρή ηλικ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Ευχαριστούμε </a:t>
            </a:r>
            <a:r>
              <a:rPr b="0" lang="en-US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νδριάνης Γιώργο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Θεοφανέλλης Τίμο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Κουρτίδης Βαγγέλη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Μαργαρίτη Μάγδ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29T10:15:18Z</dcterms:created>
  <dc:creator>Τιμολέων Θεοφανέλλης</dc:creator>
  <dc:description/>
  <dc:language>en-US</dc:language>
  <cp:lastModifiedBy>Τιμολέων Θεοφανέλλης</cp:lastModifiedBy>
  <dcterms:modified xsi:type="dcterms:W3CDTF">2014-04-29T12:21:14Z</dcterms:modified>
  <cp:revision>3</cp:revision>
  <dc:subject/>
  <dc:title>Web 2.0 και δημοτικό</dc:title>
</cp:coreProperties>
</file>