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E3B-E1F6-4D50-ABE1-01E33CF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A51-1B04-4E22-A99E-8BEB4D4C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6C1-9D4F-4A28-9013-711CEE4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3B0-EAAB-41F4-BAD9-44E969AE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ACA-52CD-4E1A-8F3B-DCDF792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56E-3155-4929-84D4-D910B02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D72-AB69-4670-BB79-044380D7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E21-0C6A-42B5-A0F6-C11C227F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624-D002-45CC-9601-73C39A1F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608-C570-41D8-97DB-6937A12F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644-E244-44A5-A793-1A52046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EFF-F719-41EC-BBCA-4222AED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146E-AB59-4D66-86F7-F9C96F38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0:20:32Z</dcterms:modified>
  <cp:revision>2</cp:revision>
  <dc:subject/>
  <dc:title>Web 2.0 και δημοτικό</dc:title>
</cp:coreProperties>
</file>