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643-49A8-4461-870E-95638C73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BBD-906F-4210-8A24-AF6875D4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B87E-4A9E-42BF-889F-1E89C2B2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CC25-3D59-4756-B1EA-92DA6EC7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25E-F5EA-41DE-812D-576B5055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F15-F8B1-43C2-BDF9-FEFF844E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3D2-5756-44D7-B122-DE140CFF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8F5-726C-44CC-82D7-E4C01462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68B2-E30F-4888-BA02-14D5C402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2E88-7384-4A41-A80D-6D8D0A1D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68A-F8CD-4E18-AD56-AF273C40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824-0A8A-4710-AA82-E6CF38D2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5FA0-3656-4066-894C-0EF1C44F5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l.dropbox.com/u/15019611/project/wikis%20edu_i_teacher_1_2012.pdf" TargetMode="External"/><Relationship Id="rId2" Type="http://schemas.openxmlformats.org/officeDocument/2006/relationships/hyperlink" Target="http://dl.dropbox.com/u/15019611/project/wikis%20edu_i_teacher_1_2012.pdf" TargetMode="External"/><Relationship Id="rId3" Type="http://schemas.openxmlformats.org/officeDocument/2006/relationships/hyperlink" Target="http://dl.dropbox.com/u/15019611/project/wikis%20edu_i_teacher_1_2012.pdf" TargetMode="External"/><Relationship Id="rId4" Type="http://schemas.openxmlformats.org/officeDocument/2006/relationships/hyperlink" Target="http://www.youtube.com/watch?v=IG9wFknp45Q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lodim.wikispaces.com/home" TargetMode="External"/><Relationship Id="rId2" Type="http://schemas.openxmlformats.org/officeDocument/2006/relationships/hyperlink" Target="http://2010plant.wikispaces.com/home" TargetMode="External"/><Relationship Id="rId3" Type="http://schemas.openxmlformats.org/officeDocument/2006/relationships/hyperlink" Target="http://pilotika1112.blogspot.gr/2012/11/blog-post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2.0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αι δημοτ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μείς με την κοπέλ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 +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εκπαίδευσ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ισαγωγικό άρθρο τι είναι &amp; πως λειτουργούν τα wikis. "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Παιδαγωγική αξιοποίηση των 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s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από εκπαιδευτικού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"</a:t>
            </a:r>
            <a:br>
              <a:rPr sz="3200"/>
            </a:br>
            <a:br>
              <a:rPr sz="3200"/>
            </a:b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Βιντεοοδηγίε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για τη χρήση του wikisp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Υλ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ΑΕΠ &amp; πιλοτικ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Φωτόδεντρ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ΛΛΑ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μάδα υποστήριξης του μαθήμα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.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πό εκπαιδευτικού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από την επιμόρφωση εκπαιδευτικών καθηγητών Πληροφορικής που διδάσκουν στα πιλοτικά Δημοτικά σχολεία</a:t>
            </a:r>
            <a:br>
              <a:rPr sz="2000"/>
            </a:br>
            <a:br>
              <a:rPr sz="2000"/>
            </a:b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με μέλη εκπαιδευτικούς που δίδαξαν το μάθημα ΤΠΕ στα ΕΑΕΠ δημοτικά του Β. Αιγαίου</a:t>
            </a:r>
            <a:br>
              <a:rPr sz="2000"/>
            </a:br>
            <a:br>
              <a:rPr sz="2000"/>
            </a:b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Προτάσει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για τα ΕΑΕΠ Δημοτικά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 κάποιες περιπτώσεις προτείνεται η αξιοποίηση υλικού από άλλα διδακτικά αντικείμενα προκειμένου να επιτευχθούν κυρίως στόχοι του μαθήματος ΤΠΕ, αλλά και άλλων μαθημάτων.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Masti από το σύλλογο εκπαιδευτικών Πληροφορικής Χίο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sxolinux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LINUX για τους μαθητές του Δημοτικού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Unes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για να είμαστε σύμφωνοι με τις επιταγές της εποχής παραθέτουμε έρευνα της Unesco σχετικά με τη χρήση των ΤΠΕ στα δημοτικ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Ευχαριστούμε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δριάνης Γιώργ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εοφανέλλης Τίμ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ουρτίδης Βαγγέλ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αργαρίτη Μάγ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0:15:18Z</dcterms:created>
  <dc:creator>Τιμολέων Θεοφανέλλης</dc:creator>
  <dc:description/>
  <dc:language>en-US</dc:language>
  <cp:lastModifiedBy>Τιμολέων Θεοφανέλλης</cp:lastModifiedBy>
  <dcterms:modified xsi:type="dcterms:W3CDTF">2014-04-29T10:20:32Z</dcterms:modified>
  <cp:revision>2</cp:revision>
  <dc:subject/>
  <dc:title>Web 2.0 και δημοτικό</dc:title>
</cp:coreProperties>
</file>