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8DE5-A036-4254-96FA-557955918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89C6-61DE-4FE0-AF31-64A3E9D9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84C9-D26A-4416-8D7D-841F90E19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1AAB-2096-4B01-AA94-F402C58B7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7778-9FA8-4A67-B2C9-D229429F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2977-0E8C-4434-B3FA-BF5FD565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B30E-C50A-40D3-A2DE-06CA10CD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4538-712B-4984-B2F6-58DD76A8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8AFD-FC09-435E-AA07-1F2A131D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9A50-CFDE-4EFB-B537-054DBD6E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3377-67A5-457C-AF4A-85154B54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33D9-D428-4624-A212-8C8EDE75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5681-A579-49FE-A04C-B6322B3CF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dl.dropbox.com/u/15019611/project/wikis%20edu_i_teacher_1_2012.pdf" TargetMode="External"/><Relationship Id="rId2" Type="http://schemas.openxmlformats.org/officeDocument/2006/relationships/hyperlink" Target="http://dl.dropbox.com/u/15019611/project/wikis%20edu_i_teacher_1_2012.pdf" TargetMode="External"/><Relationship Id="rId3" Type="http://schemas.openxmlformats.org/officeDocument/2006/relationships/hyperlink" Target="http://dl.dropbox.com/u/15019611/project/wikis%20edu_i_teacher_1_2012.pdf" TargetMode="External"/><Relationship Id="rId4" Type="http://schemas.openxmlformats.org/officeDocument/2006/relationships/hyperlink" Target="http://www.youtube.com/watch?v=IG9wFknp45Q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olodim.wikispaces.com/home" TargetMode="External"/><Relationship Id="rId2" Type="http://schemas.openxmlformats.org/officeDocument/2006/relationships/hyperlink" Target="http://2010plant.wikispaces.com/home" TargetMode="External"/><Relationship Id="rId3" Type="http://schemas.openxmlformats.org/officeDocument/2006/relationships/hyperlink" Target="http://pilotika1112.blogspot.gr/2012/11/blog-post.html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2.0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και δημοτικ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μείς με την κοπέλ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170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 +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εκπαίδευσ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ισαγωγικό άρθρο τι είναι &amp; πως λειτουργούν τα wikis. "</a:t>
            </a:r>
            <a:r>
              <a:rPr b="0" lang="el-GR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Παιδαγωγική αξιοποίηση των </a:t>
            </a:r>
            <a:r>
              <a:rPr b="0" lang="el-GR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ikis</a:t>
            </a:r>
            <a:r>
              <a:rPr b="0" lang="el-GR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από εκπαιδευτικούς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 "</a:t>
            </a:r>
            <a:br>
              <a:rPr sz="3200"/>
            </a:br>
            <a:br>
              <a:rPr sz="3200"/>
            </a:br>
            <a:r>
              <a:rPr b="0" lang="el-GR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Βιντεοοδηγίες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 για τη χρήση του wikispa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Υλικ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ΑΕΠ &amp; πιλοτικ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Φωτόδεντρ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ΛΛΑ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Ομάδα υποστήριξης του μαθήματ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κ.ά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Από εκπαιδευτικού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iki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 από την επιμόρφωση εκπαιδευτικών καθηγητών Πληροφορικής που διδάσκουν στα πιλοτικά Δημοτικά σχολεία</a:t>
            </a:r>
            <a:br>
              <a:rPr sz="2000"/>
            </a:br>
            <a:br>
              <a:rPr sz="2000"/>
            </a:br>
            <a:r>
              <a:rPr b="0" lang="el-G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iki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 με μέλη εκπαιδευτικούς που δίδαξαν το μάθημα ΤΠΕ στα ΕΑΕΠ δημοτικά του Β. Αιγαίου</a:t>
            </a:r>
            <a:br>
              <a:rPr sz="2000"/>
            </a:br>
            <a:br>
              <a:rPr sz="2000"/>
            </a:br>
            <a:r>
              <a:rPr b="0" lang="el-GR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Προτάσεις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 για τα ΕΑΕΠ Δημοτικά</a:t>
            </a:r>
            <a:br>
              <a:rPr sz="2000"/>
            </a:br>
            <a:br>
              <a:rPr sz="2000"/>
            </a:b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ε κάποιες περιπτώσεις προτείνεται η αξιοποίηση υλικού από άλλα διδακτικά αντικείμενα προκειμένου να επιτευχθούν κυρίως στόχοι του μαθήματος ΤΠΕ, αλλά και άλλων μαθημάτων.</a:t>
            </a:r>
            <a:br>
              <a:rPr sz="2000"/>
            </a:br>
            <a:br>
              <a:rPr sz="2000"/>
            </a:b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Masti από το σύλλογο εκπαιδευτικών Πληροφορικής Χίο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wnlo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sxolinux</a:t>
            </a:r>
            <a:br>
              <a:rPr sz="3200"/>
            </a:b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LINUX για τους μαθητές του Δημοτικού 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Unes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Και για να είμαστε σύμφωνοι με τις επιταγές της εποχής παραθέτουμε έρευνα της Unesco σχετικά με τη χρήση των ΤΠΕ στα δημοτικά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Ευχαριστούμε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νδριάνης Γιώργ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Θεοφανέλλης Τίμ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Κουρτίδης Βαγγέλη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αργαρίτη Μάγδ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9T10:15:18Z</dcterms:created>
  <dc:creator>Τιμολέων Θεοφανέλλης</dc:creator>
  <dc:description/>
  <dc:language>en-US</dc:language>
  <cp:lastModifiedBy>Τιμολέων Θεοφανέλλης</cp:lastModifiedBy>
  <dcterms:modified xsi:type="dcterms:W3CDTF">2014-04-29T10:20:32Z</dcterms:modified>
  <cp:revision>2</cp:revision>
  <dc:subject/>
  <dc:title>Web 2.0 και δημοτικό</dc:title>
</cp:coreProperties>
</file>