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600-CD62-446E-BF8B-9F791ABE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819-C886-4FB0-A0D6-F8FF5C34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0F1-DF90-4349-BC58-0593C62C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C86-4D93-42C9-B5EB-519849CC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6A8C-B93C-4456-B641-18852906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E561-4BB3-4221-AA30-CEE05F46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7C7-B02D-4257-98CD-2D2E6CFA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02C-5F26-4A68-B407-E7DC660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4BE-A2A5-46C7-8954-0B140776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F60-6A2B-4D8E-95BD-88702E83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197-7BE0-4C95-8D29-9198DAD6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1B5-FC86-4197-870E-5400A4A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1BB5-73FD-4BA1-B36F-500A980E0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0:20:32Z</dcterms:modified>
  <cp:revision>2</cp:revision>
  <dc:subject/>
  <dc:title>Web 2.0 και δημοτικό</dc:title>
</cp:coreProperties>
</file>